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DA67-6320-4AE7-BCE3-FE5719160F4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AF0D-D510-42AB-9AB8-CACD1B98DE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30E-D932-455C-A653-B39ECE14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AB4B-23D5-4701-B9C5-ECEA928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FF0-DE68-42CD-A597-8F8EECE9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B179-5430-4295-91C1-7ED32734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5F4A-4B7F-407E-8CC6-77A5569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40C-F1B4-4325-9E38-50B388FD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AD8-AB56-4894-B296-B98EAE4E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A8E5-D9DE-439C-9D2C-C6B64290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594-D4D5-4D07-A05F-98ECC1C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131-A216-45F6-9B1A-0C0E870B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0E7-868D-475D-A396-019900B6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7B1-272C-4724-A378-0353F550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EC5-6286-48A6-B8D7-21F3E034D7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拟在华工作时间：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3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4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，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2015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</a:t>
            </a:r>
            <a:r>
              <a:rPr b="1" lang="zh-CN" sz="1800" spc="-1" strike="noStrike" u="sng">
                <a:solidFill>
                  <a:srgbClr val="cc3300"/>
                </a:solidFill>
                <a:uFillTx/>
                <a:latin typeface="黑体"/>
                <a:ea typeface="黑体"/>
              </a:rPr>
              <a:t>　　　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4000" y="345600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400"/>
                <a:gridCol w="768600"/>
                <a:gridCol w="457200"/>
                <a:gridCol w="766440"/>
                <a:gridCol w="64800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51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五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用人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用人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10-22T08:29:07Z</dcterms:modified>
  <cp:revision>21</cp:revision>
  <dc:subject/>
  <dc:title>PowerPoint 演示文稿</dc:title>
</cp:coreProperties>
</file>